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6C0-2A47-493B-9442-E90144C9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2EA-2F5F-4766-9A37-C53BAE9A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5CF8-85FE-4B5F-9DD1-E37B8DB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9FBAB-7009-46B9-80D3-2A30993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CD74A-495D-4DDC-82B3-398C5C8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14511-3342-4DD0-B2A0-1CB19AD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CFCD4-4845-4D4B-A940-7101F10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9D5C6-D155-4303-9DD6-F580692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00AE9-8392-4864-B964-085F6A6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5ABCA-CAB6-4E2F-83C7-BA1C9D68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E554D-F1B2-4619-A8D4-C8F51D5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52894-5EC9-4DE5-8515-F010E1FC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AD0-1DD8-4CE5-BCA2-1D151E16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1F984-12F9-443D-AF72-984D72C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D6E8-1586-425B-89FF-B410182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58A85-3A16-44AB-9E88-4595CE35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3E44-0D22-4EEE-95B9-B7D504A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EA5B-157E-4B4C-961F-13BF5BD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6A2AE-3A1A-4D21-80EF-8B2F9797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67855-0939-409E-973A-558AF6E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BBCF1-C7DD-4342-9FFE-607D471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09284-9DE0-4A63-AC1E-4A82360E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2A4DA-BE70-46C0-B0A9-07C63A72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800-8A7F-467D-A300-2EEB6C0A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521F0-135E-4006-8A53-E057F630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E300-D41E-47EA-9D48-8E4846B3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DD1A9-2EB0-453F-AF4F-A81E663E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69D8D-01D5-4C3A-8AC4-9AD6A4C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E03A-2A55-4506-8AEB-B146B52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071C-F365-482F-A890-C35F8D2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BD1C7-B929-4E33-852F-2CD64320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C3BE-B065-4AC1-AEFC-0709CF5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459A-43BD-49C4-B252-B8A24CB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BB2B-9FC8-4743-BA14-00C4D83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AB9-CD34-434F-BBB9-D10779F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85EF-F979-45D3-8A06-432FBCA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29DE-8461-4A28-AA42-304D6AC3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4E8CA-E7C1-4488-95D6-89FAE56F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436C6-ED9C-4243-B091-2CB7D66F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4510D-EA51-4332-A84B-78EE997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60EAD-A454-488C-A20B-9176AD6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FD61B-7C0F-4BF2-A41A-E7935FBA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0DCB2-86A4-4D73-8F9E-9ACDB76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64535-4329-4C1C-AB44-D2625B8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A6561-54DA-4760-8A9C-AB85CBE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519-6947-4C02-B57F-CF5EBABA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50A0C-3BA7-464F-95FE-B9456DC2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10474-5647-46D2-8481-A10CAB8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C9A7E-DBD6-49DF-9CA8-F676C1C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83DDE-DD44-431E-BC4A-BFAB7C5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494A-19D5-4C44-971C-5CDA4A2D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5F82C-AD91-4069-8971-9E3386B6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C9858-E0D5-4584-80F6-BB4EFDB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24BE5-6173-4C67-A746-0BB3D2B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E74F5-B488-4C4F-85EF-189802E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59E27-9D89-48F8-816C-09BEE207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445-7E78-425E-AF1A-5922111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E7898-61F0-453C-B122-0BB77BA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5D075-F69F-42A5-BFFE-00B046B8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F7176-6907-428A-A993-AF5963D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60C8B-56EB-4744-B516-0A1935E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4382A-92B0-40E5-B0D9-2422972C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5EE64-1B68-4CF5-8DEB-F2484D54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8BB47-970E-427D-93BB-B29893F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31E95-7DE0-447A-B956-73344533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164E5-DA6C-49A3-895C-861AB2A7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4BF12-16F9-4D56-8C7D-962127F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7905-C333-4047-B54F-2ED8A34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14D28-26B4-4C80-921D-8B6D033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1996F-FE9E-4D58-B321-0F59B004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D5460-12C5-4230-870D-0A60D908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C0858-2AFB-4AFD-B4EC-A18B093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B7FC8-B83F-48D6-B259-7505C10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DAC6D-3D9D-4E0C-B26C-A5895EB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0AC30-9510-4A31-AFEF-29305850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00DE4-4FB1-4596-91CD-4E6F71F6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7A72F-027B-4618-B5F8-808379BB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75E53-87EE-4BF1-80BE-FD50F56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14E-AC81-4E2D-8D07-53516C7F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CC1C4-8CBC-4DDB-8080-650D4D6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8F9F3-6086-465C-9935-FA647E81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06B97-DFD5-4E64-AF2D-313E758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9DAE5-9495-4CBE-90A3-CB6BB17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AB82C-5067-436A-B8EF-035B7D2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C08C9-093D-4829-BF9A-503F9AA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785B2-909C-4AB1-87B3-24F6C6B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855A8-607E-415A-9870-5F72B55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4A4EF-F5B8-496F-975E-00F69A9B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424C1-8BAC-4486-AB41-E39F07EE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DD8-613D-4B24-B840-E72BF468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88895-0B17-4364-9E98-8331249A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E4264-6483-46A4-922E-B0C5AD38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144A4-831E-42F4-8E84-1264554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3B766-57C1-40A9-8792-DF64C6DD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2852D-04AC-4A27-9A56-334A2BBA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38DDC-BCF0-4AE2-A1E6-789BAE2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F37E3-6637-4D79-BE6B-E9AA248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130CD-449C-41D3-89FE-2831788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07BF3-203F-43C8-9645-AC21E79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1BE5E-B0E5-4ED7-AFBD-9DC04001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B1F-EE04-4339-9B03-40DEB92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1097F-0027-4C7E-8CC6-172B1532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8F343-7D70-4D7B-BA1D-AECE449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D41FC-05A6-4DD8-BE63-1B4F993F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94569-7C0A-4779-A2B6-7DA42D45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3DD40-9DB5-493C-86DC-71A2DB6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5F5E2-2044-4EBB-8C28-34F0AD5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73A75-D9CD-4310-B21A-9F4FBE9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D156F-6E60-40E9-BB8E-49C0652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8E196-8C5C-4681-B237-48ADDB6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00368-091A-452A-BC79-6A224E3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60A-B6F9-47CE-B49D-ACF0932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CA12-422B-453C-B1CF-681A2522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50A9F-0CBD-4502-AC37-A2AF0D0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27AAD-DC37-4781-A807-05A654E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02FEC-534C-431A-B5B5-E8F8548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8EF5C-D651-4C69-9D08-1F13F76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0D021-691A-410D-B418-7833E61E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7C6CD-4A96-4B46-BB4B-E6948802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1C152-9417-4F80-826E-95BFB846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A11FF-93EA-4A7B-BFD2-3CC72A8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C4781-5610-4691-9281-D47FBA9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48814-F0A7-41FD-9F77-687F02F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0FDC-E749-4508-8F3B-DA18BFA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A0719-F637-4BCC-B710-75017AB6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CF173-21FA-4ED7-A99B-AB8387B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5EF08-D50A-44C1-80FD-A9C329A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041D1-2B18-4763-A311-E6BBA3D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471A6-8CF9-48C2-9563-A87E451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9E730-F00B-4CBD-B40E-B81B4282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79721-1A1C-49D3-A3A0-E985B8A7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AD24A-AF32-4F1A-8AEA-320DD3B7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C9EBB-7585-4CA0-978A-F942ABD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D8C7F-7292-4842-A18C-F7B75AC2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50C-B166-436F-952E-53B95DD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C21AB-C165-4B72-9CA1-264F8AF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A7D5E-2B7C-4CE8-A29C-15E7CAB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78B2E-FA6A-4553-A8B5-0B5419AC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CD05F-75D5-40D3-B935-624915A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E1857-B2DA-402B-A84E-10FD0EA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8AE18-09FE-4269-8583-417456F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1BA7F-53C7-4ACF-8605-1F7603B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0C701-0D41-472D-BB63-ADE56DD0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76B2F-4CB7-40E6-85A3-46457132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31895-E22A-4C8B-B665-331C3EA1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DC4-6EC6-4F5E-B612-9F646982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56C71-0B30-4FFD-A47C-1AD3B538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6F703-C6D9-4564-86C6-55906053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4CF31-A4EA-4FA3-9B51-D7EB4D74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C4A0D-0C61-45E8-8447-FFE8562B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33FFA-AE3A-44E2-A636-5B12611C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2D4EC-9845-4C15-B831-CBA643D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F4D38-A8A3-4473-B9D2-FD405BDF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CABD4-7D24-4534-9057-7AE7F59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99511-2BDA-435E-BCBA-2C736FF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B6B79-255B-4EDD-9171-D68AAEC1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B3B-91D0-4CA8-A152-FBCB56E3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75CBB-B1A8-4732-80AB-E5688ECF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2388F-6A39-4DDF-928B-FB9314BA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D25E1-AD47-4132-A99A-B17D7BB2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24C94-7C12-4757-BE65-28120873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40DA6-7ACD-4EEC-8D22-0FEBB73D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9686A-DC02-4A56-8B6F-79DD48A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FBE35-3BF2-4796-AF9C-C1F506E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15F14-AAE7-4E3F-9150-AB99B49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1664A-344C-40DF-8359-5747DE5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FAF8B-816B-4CF0-BA20-3DD8FFC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8B2A-68CA-4B49-92EE-73B78D90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1ADAB-DDB4-4F65-A9B8-70F12D4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C52AFD-2657-4714-8253-341BC02B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51001-33D9-4253-B9C7-346B910D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955F-BF05-41EB-AD59-C8AD8DCF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5400-EE1E-475A-8615-4028986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7798-3288-4036-AFBB-6174A6B8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64F2-E635-4D36-919D-A8F14B0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42F-A417-4871-BAF9-5C3BBAC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B238-3A4C-4CFD-A358-814235CF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CEA7-0BD1-4C4B-99B2-8B145A3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3F2C-412B-4D22-9D4C-C53B9CC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0B38-CBCE-40A4-AF3F-0BE7950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F7EE-2D80-418A-8E73-767E740D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0F5B-C4F1-4661-A72D-B7652AB0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ECB3-8350-43AD-BF17-C15B429F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5B35-E7D5-4086-94F7-1C03A7B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7CC1-C9D6-4703-8A60-8AB5A2C3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B19F-F46E-4592-A8FD-586AB1F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94D-34F7-4486-B988-9D83A7F9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1E6A-7674-4709-89AF-3070BEF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FAC3-5139-4A8B-952B-F50C03C5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11B3-C299-4DA3-9402-36B802A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000A-DC47-405D-9154-2F87655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22F4-A343-40A5-8125-93208BB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4076-3D63-4395-B18A-1BBFC94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4BB8-45F7-43B7-A2F6-61B0685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CCD4-90A7-42D9-98FA-DAA39470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6EE5-77C4-44C3-B2E5-53C1C19E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2EC7-3397-403C-A2B1-AE659813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089-4A17-4947-A758-8E38C87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CD1B-9615-4888-AE03-4B14050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BC80-153E-4353-8C47-89F4A62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0C2F-EAD3-46CD-B4A9-73008CA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DB45D-444A-46BD-A1BF-536B9A1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96E2-28DB-45C0-BB90-FF9B83D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7C9A-F59A-42DC-8E92-8107932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07C9-D44C-4E62-8D2A-3E610FA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0073-6ED9-47EF-80F0-136B418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9C28-FA40-4E31-800C-808D4EF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AEA1-5265-406F-AF9D-10C9440A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813-0FFB-4248-9D12-A127895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A012-880D-4B6D-BFB7-D0ACC153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24F6-3C11-4F18-83A5-D5F32785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E7F33-18E8-4097-9E85-D2EA1BB9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085D-E9BD-455D-A4C0-E890BADF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9BC4-3319-420F-920C-5D1EA65F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EE33-47D0-4A61-8B18-D7E63C3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DCFB-DDD1-4794-BDE3-806F4B8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E9F7-E4FB-45FF-87D7-091C51E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36B1-6EE3-4CDB-8200-4C5EE874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88AF4-6F38-4092-86C9-1F9A451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C79-309E-4B00-ABF1-0ACD951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C6E4-0868-4C15-906B-5FCBAB6F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9722-109E-4870-8A3F-65A5F34B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9E6BC-00D6-4603-B7ED-71CD3AEC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24E58-7670-4487-8C93-E169090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8A6E-0A64-4C09-BF79-46ED4993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7F11A-354D-451A-9890-2C3270E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50A8-A8D5-4A97-A723-C0F2030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4C49-556A-41F6-BB81-4FD7FCBE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99B0-8CA5-4F78-8BC3-ED4C526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BB11-5049-41FD-9065-6C2E7E4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305-7922-4F5B-B679-056AA278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24C6-499A-40A8-98C8-E30D3E7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17E9-BF3C-4CCA-8703-121083E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7F77A-6F9D-4775-952E-61E54ED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7EE2-B193-41F5-B9CA-8559E744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D8E9-B6E2-4F0E-83DE-7066AD2A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D225-59EB-443A-84E5-17DCB8CC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C69A-CA44-4FCF-BFFC-9E91FD6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9F403-D4CE-49CF-968D-AAF128E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EE57-338B-4A66-94E6-428DCACA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FBFB-D8B4-4B76-A35F-94BB95B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9BC-5D38-4163-8998-F2A0C12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AB89-F565-4DE1-BB6C-78C8B67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EC0B-099D-498B-BDF1-C642E71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35F3C-8421-459E-9C7F-0D68C55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715D-31A7-43A6-9F05-CD224F0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3AE0A-619B-422C-A1CB-610C443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7C5A-DED2-435A-AFF2-642B723E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4852-7A06-4D2D-B118-F058F9F3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53E1C-00EE-45C0-B48E-50F6BD9F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ED9BD-9243-4E8A-830C-1C82F757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BEFB-AA18-4BDA-BE6D-DF7D229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5F7-8BE3-4736-B9D1-794150C2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BEB-764F-4C02-A736-B98FBD728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829-1655-451D-A239-1583A3EFE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957-05B6-4675-A06D-A6683673C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55E9-8A6C-4223-AE67-D6F1A49FC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009-1145-455A-949C-FEED9B5E4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8815-F7C2-4744-84BF-7568353FE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02C7-1486-464F-9078-D0092A558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FF7-A78C-4701-BCA5-0F871B217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68B-D8DB-4551-A88F-7FC6EA65B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E8E5-7EFE-4495-BFFF-897420545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6F9-D734-4CF5-821A-899CFA3E3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1FB-D9C8-4BE7-8DB2-D9F74D8A7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E909-B934-45F5-820E-6A7BCB600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2CC-4890-4627-A1FE-6C9E36E63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A64-D3DD-40A1-A351-CBCEA42F32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A45D-4889-4C76-8EDF-63348C27C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EC4-F387-4EBB-8CE1-9AD1A1B09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679A-6355-4181-A13E-63F85FCEC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81A9-0543-486D-9191-2C3F58FFB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75D-F284-4C3F-9A33-AF02083A3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790-E9A2-43DA-B461-B4B5D640C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920D-7AE4-4BB1-ACA9-6B4CEBE7C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B3DD-D78A-494F-8372-2120C125D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E6D6-641D-4B67-8560-7DD7A3168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E5C-2C4F-4288-BCCA-63A353FA0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D09-EC6D-40A4-8160-505390222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F29-69A8-4B06-A3D9-C9A5E7D43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722-31A7-4063-B81B-77228EA1F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EFD-687F-4AA0-AB1F-B070C2639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EEF-0661-4455-A1DE-70A4523B2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EB35-03AC-4F46-9039-AEDB20AE22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368-EF57-4508-8113-3C724B9EB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AF9D-45F8-47D0-A1CA-BD0432F48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4D0-51E6-4354-A9F9-2A4ECC91B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D81-86F0-4AD0-9D5D-517507E9F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1CE-DE4A-44F4-93CA-0D3208543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066-FD67-47ED-A159-138335E38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B7F-B224-4E4A-BB07-C4941452C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4AF5-2BAF-4E7E-AC1C-BF1D666A9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90440" y="3000240"/>
            <a:ext cx="69631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124000" y="865080"/>
            <a:ext cx="4408560" cy="5948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444760" y="1265400"/>
            <a:ext cx="42703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5" descr=""/>
          <p:cNvPicPr/>
          <p:nvPr/>
        </p:nvPicPr>
        <p:blipFill>
          <a:blip r:embed="rId1"/>
          <a:stretch/>
        </p:blipFill>
        <p:spPr>
          <a:xfrm>
            <a:off x="638280" y="858960"/>
            <a:ext cx="7867440" cy="5810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1908000" y="320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4"/>
          <a:stretch/>
        </p:blipFill>
        <p:spPr>
          <a:xfrm>
            <a:off x="1908000" y="4719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5"/>
          <a:stretch/>
        </p:blipFill>
        <p:spPr>
          <a:xfrm>
            <a:off x="1908000" y="61657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00040" y="765000"/>
            <a:ext cx="8143920" cy="4314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279440" y="5445000"/>
            <a:ext cx="7201080" cy="12765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3"/>
          <a:stretch/>
        </p:blipFill>
        <p:spPr>
          <a:xfrm>
            <a:off x="1692360" y="299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4"/>
          <a:stretch/>
        </p:blipFill>
        <p:spPr>
          <a:xfrm>
            <a:off x="1692360" y="450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5"/>
          <a:stretch/>
        </p:blipFill>
        <p:spPr>
          <a:xfrm>
            <a:off x="1692360" y="5511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66760" y="709560"/>
            <a:ext cx="8610480" cy="6134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547640" y="7128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476360" y="219852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1547640" y="2846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6" descr=""/>
          <p:cNvPicPr/>
          <p:nvPr/>
        </p:nvPicPr>
        <p:blipFill>
          <a:blip r:embed="rId5"/>
          <a:stretch/>
        </p:blipFill>
        <p:spPr>
          <a:xfrm>
            <a:off x="2857680" y="5214960"/>
            <a:ext cx="2228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744480" y="733320"/>
            <a:ext cx="7747200" cy="6110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6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2428920" cy="819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6" descr=""/>
          <p:cNvPicPr/>
          <p:nvPr/>
        </p:nvPicPr>
        <p:blipFill>
          <a:blip r:embed="rId3"/>
          <a:stretch/>
        </p:blipFill>
        <p:spPr>
          <a:xfrm>
            <a:off x="2786040" y="2643120"/>
            <a:ext cx="2228760" cy="8193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6" descr=""/>
          <p:cNvPicPr/>
          <p:nvPr/>
        </p:nvPicPr>
        <p:blipFill>
          <a:blip r:embed="rId4"/>
          <a:stretch/>
        </p:blipFill>
        <p:spPr>
          <a:xfrm>
            <a:off x="2214720" y="5500800"/>
            <a:ext cx="2228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1619280" y="739800"/>
            <a:ext cx="6022800" cy="6097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2340000" y="5661000"/>
            <a:ext cx="2016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3"/>
          <a:stretch/>
        </p:blipFill>
        <p:spPr>
          <a:xfrm>
            <a:off x="2492280" y="6145200"/>
            <a:ext cx="186372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4"/>
          <a:stretch/>
        </p:blipFill>
        <p:spPr>
          <a:xfrm>
            <a:off x="5056200" y="5681520"/>
            <a:ext cx="203688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5"/>
          <a:stretch/>
        </p:blipFill>
        <p:spPr>
          <a:xfrm>
            <a:off x="5219640" y="6113520"/>
            <a:ext cx="1863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9:5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